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BB564-9E99-460F-9AFC-2325692F0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1F20B-02CB-47C7-B28A-6B2C57767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EFD96-B282-4E18-8BC3-FDF3A9E4E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50840-5D53-4C97-AFF0-DEA15B9ED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D91E8-594A-4B1D-A860-FCDDD76D1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B422E-D203-4DF8-8B24-58066C5E3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7DE82-5669-489B-95E7-9A0618FE6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E175D-EF69-4A22-BAEE-DFB19E508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72445-4177-415D-8E54-E58994406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93425-E744-414D-9A0E-774BA08AD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577CF-8A9E-4CF2-9D6A-7F0CD2495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FEF7A-2E19-4BF2-885B-15204EB4A4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01B9A-C851-4511-81FC-5590784049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6" name="Text Box 9"/>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7" name="Picture 12" descr="comp_i"/>
          <p:cNvPicPr/>
          <p:nvPr/>
        </p:nvPicPr>
        <p:blipFill>
          <a:blip r:embed="rId1"/>
          <a:stretch/>
        </p:blipFill>
        <p:spPr>
          <a:xfrm>
            <a:off x="5867280" y="1828800"/>
            <a:ext cx="2847960" cy="28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457200" y="1066680"/>
            <a:ext cx="8229600" cy="5562720"/>
          </a:xfrm>
          <a:prstGeom prst="rect">
            <a:avLst/>
          </a:prstGeom>
          <a:noFill/>
          <a:ln w="0">
            <a:noFill/>
          </a:ln>
        </p:spPr>
        <p:txBody>
          <a:bodyPr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5T12:33:26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